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BB5E-1A87-48D3-BA7B-7A0FA6BA5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E41B-60F5-4F46-8118-F8B0AE9A3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54D9-DACF-42DB-A775-7375DE92F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1766-3953-42A7-8B13-9FC9D47FF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E5BF1-2B11-485F-BD71-E2B9D464B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16F11-43AE-405A-B115-DC9F401D8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3115D-DB08-4B64-9290-2224C9ECE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E2B84-5EBE-4380-9F27-26DC3CA9F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0E03C-2C23-464D-8AF7-885F56D3F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02238-85F7-418D-9C3E-DEF0ABA12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15B32-8A85-42B0-884A-836C8EB0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77C1-CDE9-4880-AB97-D5DA78897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9BB6A-5DE1-467C-9B21-8D2E9464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C230B-B46B-4158-B320-408F5D58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96E19-32B0-423B-9C92-030DA94D4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E29F6-C898-4B85-BDE8-474038CA4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3D737-7F59-43C9-96C8-91ECCF1BB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1376-5947-472D-948E-2D316F9E2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82D7-530C-4517-83C6-EA6927D83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9152-9AD5-4772-B7DD-21EFCA2AC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B142-9F13-4D6C-889D-10A4F6BAC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95E9-4922-4ADE-B42F-7980E083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35C6-8C72-40C9-8D9D-B9D2AC15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4742-9951-4913-8CE9-3CCEC8FD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F3CCE-189E-4AAC-84BC-B0A72FEECC86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55FBD-073E-475A-8893-C8C39D2959A4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760" y="1920960"/>
            <a:ext cx="8508960" cy="26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Ses Temelli Cümle Yönteminin Okuma Becerisine Etkisi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Bağımsız Değişken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99640" y="1598760"/>
            <a:ext cx="77821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s Temelli Cümle Yöntem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Bağımlı Değişken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Okuma Becerisi 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ra Değişkenler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nne babanın eğitim seviyes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ardeş sayısı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ünlük gazete alımı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kul dışında öğrenciyle ilgilenilmes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üzenleyici Değişkenler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ınıfta uygun materyallerin kullanılması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Öğrencilerin okumaya güdülenmes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Öğretmenin donanımı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ınıfın fiziksel özelliklerinin uygunluğu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( Işık, ısı, sınıf mevcudu…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2T16:47:21Z</dcterms:created>
  <dc:creator>PERFECT PC1</dc:creator>
  <dc:description/>
  <dc:language>en-US</dc:language>
  <cp:lastModifiedBy>PERFECT PC1</cp:lastModifiedBy>
  <dcterms:modified xsi:type="dcterms:W3CDTF">2010-10-02T17:42:09Z</dcterms:modified>
  <cp:revision>2</cp:revision>
  <dc:subject/>
  <dc:title>Ses Temelli Cümle Yönteminin Okuma Becerisine Etkisi</dc:title>
</cp:coreProperties>
</file>